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CE4A97-0C5D-46A6-905C-86467A0EA7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179D75-6D9A-46D0-9F97-90D97A001A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374B08-F242-4EDD-B908-3B08CF6792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C246D2-6FD5-4F23-9003-8A2A86C695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- Tabulka dostupná na stránkách MŠMT – jedná se o přílohu č. 2 – Přehled uzavřených zadávacích řízen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Reg. číslo – uveďte tak, jak je uvedeno v Rozhodnutí o poskytnutí dot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zev projektu – celý název tak, jak je uvedeno v Rozhodnutí o poskytnutí dot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yhlašovatel zadávacího řízen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ořadové číslo zadávacího řízení – mělo by být shodné s číslem, uvedeným v monitorovací zprávě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zev dodavatele – název vybraného dodavatele tak, jak je uvedeno v uzavřené smlouv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IČ dodavatele – uveďte 8místní IČ vybraného dodavatele tak, jak je uvedeno v uzavřené smlouv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Typ zadávacího řízení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atum podpisu smlouvy s dodavatelem – tak, jak je uvedeno ve smlouv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38D316-BE44-44B0-B1D0-40C04E5EEF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šechny uvedené doklady musí být poskytovateli předloženy nejpozději s 1 ŽoP po ukončení výběru, poskytovateli se předkládají kopie uvedených dokumentů, originály uchovává příjemce a předkládají se na vyžádání kontrolním subjektů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ro kontrolu na místě jsou důležité i doklady prokazující odeslání oznámení o zahájení VŘ dostatečnému počtu uchazečů (dodejkou, podacím lístkem, emailovou doručenkou, předávacím protokolem) + zadávací dokument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oklad o uveřejnění výzvy na stránkách MŠMT, tedy při plnění nejméně 500 000 Kč bez DPH – vytištěním příslušné stránky pomocí funkce Printscree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smlouva včetně dodatků uzavřená s vybraným dodavatel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řílohou zápisu je čestné prohlášení  o nepodjatosti a mlčenlivosti, zápis musí obsahovat náležitosti uvedené v PpP – zejména seznam posouzených a vyřazených nabídek; zdůvodnění vyloučení předložené nabídky; popis způsobu hodnocení nabídek; výsledek hodnocen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častá chyba: zadávací řízení uvedená v příslušném bodě MZ neodpovídají monitorovanému obdob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CC7842-FCF5-4D67-992E-C0471AA196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66A8D7-5B8B-44C6-8B4B-3FD34DE848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241B59-3A27-4236-8B05-982F3F7FBE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Doporučení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 případě, že příjemce v rámci Smlouvy o partnerství pověří partnera prováděním zadávacích/výběrových řízení, doporučujeme, aby si smluvně zajistil i přechod odpovědnosti za provádění těchto činností v rámci partnerství a stanovil v partnerské smlouvě partnerovi povinnost vrátit prostředky určené k plnění zakázky, pokud by se z důvodu nesprávně provedeného zadávacího/výběrového řízení staly nezpůsobilými k proplacení z prostředků OP VK. A dále, že je partner povinen uhradit případné sankce či pokuty, které by byly příjemci uloženy v souvislosti s nesprávně provedeným zadávacím řízení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4318C6-E4BB-441E-BD5C-F4B245719F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Ovšem poku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by jinak nebylo možné dostatečně přesně a srozumitelně určit předmět zakázky, musí zadavatel v tomto v zadávací dokumentaci nebo v oznámení o zahájení, umožnit pro plnění zakázky použití i jiných, kvalitativně a technicky obdobných řešen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by bylo poptávané plnění nekompatibilní s již používanými zařízeními či systémy a jeho přizpůsobení by provozu zadavatele působilo mimořádné obtíže, může zadavatel uvést podrobnější specifický popis plnění. – jedná se například o používání Microsoft Windows a Microsoft Office pro pořizované P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E2BD2B-4B31-4396-A9DD-7B2E132409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Další dokumenty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, které je možné stáhnout z webových stránek mšm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ýzva k podání nabídek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ýsledek výzvy k podávání nabíde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Čestné prohlášení o nestrannosti a nepodjatosti členů hodnotící komi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ápis o posouzení a hodnocení nabíde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A51574-D8CC-429F-9A2A-22E520A85F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DA0B-81A6-4AFC-90F2-BE204A245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7B8D-86CD-49FD-977F-13EF6CE1D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6BF21A-2DF0-4E39-9C04-F2BE5287E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E541A8-E68A-46F1-AFE5-EAF5E5A32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83046D-93B6-4F66-A0FC-099C1BFD0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24E471-6945-496B-B6F0-D2692EFD0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6B2DEB-8BE4-4989-AA4C-CE32FA93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1E68FB-8338-4CFC-B72F-F337CBC3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950CB2-73E9-4602-A22C-1863D4E76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950821-DBA8-4722-8462-59B827E54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FDFA73-0E1F-461C-84E0-D6D480AFE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80954D-6112-42DC-81A9-6ED2B72EF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8F4B-3849-4987-ACF5-7C973BA61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7D13BD-EADE-42A1-A088-84442B881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1FA007-A7DF-4E27-8AB9-BAC91D09A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A21F56-9FB9-40DA-A8AD-4FF2311B6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19A672-19D9-436B-8224-9C8E32F4E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59EA05-6F2F-4066-91E6-7BE442890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5AD0EF-EA63-41B0-BEF7-DB1FDF1F2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5BE887-5E39-45E0-B6DB-92074721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640EB3-CB30-41F6-9F92-CC8DC104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758197-D4ED-4C82-AF66-672D45448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F8D843-98B7-4C6C-8962-E797D2866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9DAA-3BED-4300-8AA8-F536EAE9A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EBB60F-DBAC-423D-866B-7606769D1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A04556-2E22-4A4F-8F5F-8B030FEC2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CE2FD2-FD18-4D60-8D90-B59B9C561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B724E0-D409-4F94-BAE8-F5B33F8BE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BBBB40-8EAD-4B0D-8472-6FFE71129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8A2809-F8DF-474B-A8AD-9F1A17DD1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087CE6-119C-434F-91DF-BBBC8D5B4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AFA1D6-4CF5-4E39-8D45-E6581484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85AEB6-C9BA-4E3A-8921-71428C25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ACF7C3-856B-4B7E-A375-20A7D2C5F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12541-1697-4936-A2B2-D79CE71F4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389C51-0B1B-429E-94AB-80DB95D82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501D35-26C7-4AC0-A210-F48A68632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4F65A3-5BFD-43CB-BE77-40C48C5A7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15892B-CBC9-41DD-AE86-8EEEA4568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3364F4-FA1C-46E1-A330-377499E36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43B23A-EA25-47F2-8B98-ED631DE23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73A530-CF08-4710-B0E4-8DE98DB12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93A9DA-525D-40BD-BCE1-8F357178A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005AEA-E0D9-480E-9C86-1D9A650AC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E36F24-E99E-429B-A8AE-033F6EC4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269C9-40CA-4176-9007-AE851BEC6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35231D-8AA7-4026-8B5E-F65955216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704F2D-6873-40A6-B3F1-1F322462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A2F386-23B0-4B69-A919-FEC8A3157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DC734E-2182-4DF3-B0A2-E9FC68E02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F54C98-D557-4638-94D3-66BE84D63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11F30-6BE5-4EB3-BF76-123D4B380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1AD19-8243-4143-9489-E166B2481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B453C-CC99-4473-9A3D-D10B6296C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AC7A4-1C8C-448B-A393-CEE17D518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B6A8C-0209-474A-9591-33753A26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4E37-9339-4F76-B859-F2790C753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16AB5-A7E5-4274-A22B-AF29364D3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61B01-C718-43F8-A178-DEC6E679B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C6448-150B-4592-B957-6E0B6699E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727B4-860F-469D-9BC5-B650AF7E5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40CCC-E8B0-4075-AE17-B4C38AEDC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EA30C-C8F8-41B4-AA58-893BCC6D2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8F9FA-4AF3-4091-8E0F-DC26517D0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9EF6A-A156-4AB6-BCBD-C3F6CC48F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CFF0B-A015-4879-B5DC-1EFD1BAEC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F7069-E754-47F4-9A2A-188BF1053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9DE8-0262-4BB3-8EE4-2DBA48E10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7D62F-D8AD-44B7-8985-0325FB13F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04C83-B3DB-46E6-BDCF-45AC422E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7EEE4-1386-4EFE-A357-7A44A5AD6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AA66D-E22B-42A9-BFDA-9B64A334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D9983-B609-4639-A597-E9B6B8CE5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434EF-A0C0-4C6B-8A74-4880A5EF1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7D430-2A63-4308-9F4E-57D7AB696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C580A-FF12-4EBD-AF33-2EBDBF2D7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3D7BF-CA64-40A2-B4FF-5D521A4A3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8A4AF-B9B9-4987-A394-05CB7F36F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402B-5F55-4AF1-A380-8B98D04D5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7DF9B-9175-4A18-BA0D-0377D9119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A20E0-89C8-4EB8-80D3-89EFA9A54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7462D-FCE4-4D5E-988E-456CBB536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4DB3F-6E74-4AEC-9026-D31477BDF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A672F-B07C-4259-95A9-2BAB4BB2B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9E7D3-2D6F-434F-B643-25408A99A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FC964-DF21-4FBD-B68F-B845A9446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E9ED4-EA88-44BB-BAA8-0CF7D0822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B298C-428E-407F-A28C-48BFC6451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37A614-F003-45EE-9851-0DF1F6E15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6DA5-9B72-4BBC-B6AD-2785B2119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9EBAE-791B-4B11-93C3-2747879A2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16C12-3B79-4FE8-8108-7656EAA04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07E9C2-ADCD-41C7-B4E0-7CBD46D21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AE25D-4D32-4BFC-A07F-A238D1F29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BFAB5-420F-4002-8B40-D352E5743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AC9CA-1DD5-4727-8C3A-13636B3FD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12850-5606-466C-A2C8-AAD7D2D9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63F8ED-D13C-4941-930C-D7345A2CE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2F1AE9-202B-43B6-A54A-4EC8CEDFC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F2E5B8-6540-4190-934F-318C6CE47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2208-BECA-4D49-AD3E-68B4F3B06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5EED8B-054F-4DEA-A1C0-3C806FA25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B2430C-1137-43E0-B26B-E364D4D59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6F0C2C-6404-47DE-B667-59985F03A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ADA92B-ED84-4989-A16F-33C38355B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4F3C23-6996-4DD8-8016-1E452BFB0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23EF64-7E37-4703-ACDE-6BBB057F6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57DBF1-9E0E-4A7A-BD4A-E1D9EA3FA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E1C0AE-99FB-44FC-A986-87D04F80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DCD403-DCF2-4178-8716-11F3EBB3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E1FB98-7A63-468D-A957-63C01CF4F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8A19-15D8-46F0-9C49-33FEA07D2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0E156D-96BB-46A9-BAC9-9D7B2852F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731159-A428-4D27-991A-885A71716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649D98-C541-40C7-8023-6B2F68FA9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CDD0BC-C51C-488B-A4C1-F46DB01E5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78BC73-43F8-4F73-A467-1C716FFF9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5A81B6-E488-47BB-8A14-958EC2FE0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73893C-86D3-4156-8249-B3CADF236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810866-3DDC-4919-A4CD-D8B8CDA57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22BB12-C880-42B2-8959-1F0182095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526433-2FB4-4648-AC91-B8321FF17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E19B-67C3-45A0-94B5-4C5A905D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EF44AB-5091-4005-B3FD-621BC98F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895F40-9920-4BF3-B256-2417ACA4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410EFE-8DEB-4DAF-A697-7C9FD32DB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05EE94-973C-4463-A48D-31C87B3FE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C37561-AC99-4905-828E-9B0DCFC63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CC4BBF-BF54-4F96-87C9-9D61B2C7D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09BE67-CB9C-40B6-82E1-02A3385CF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2A07D2-3296-40D0-8BC9-D96A9FE0E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B99BFC-96E5-4E8A-923A-09C9555CE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BD4F53-CD22-448E-B43A-59656D788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2EDE-9393-4AD1-A4BB-439A7E441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A2792D-6C61-4B54-AD4A-F1A34FE17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371F65-25FE-40E7-B3F0-2BB22F77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8C1D7E-4B91-4C4B-A68A-04E4B541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E45BC1-AC60-45E1-AD9E-317D8576C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235177-5A68-47E7-8FD2-92A9B7C06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1CE500-3225-4FB9-8B87-82656A63A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D9D60A-2C04-49A4-A855-2908AE518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3FEA5B-2EAD-452A-94F0-FD0E8B459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0C6317-8B1C-442C-8302-87C839208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874D72-8606-4267-AD71-1017864CA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F50D96-76B3-4AA3-99E7-BC158208BE4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81CB12-2F1A-4E89-8F02-09F629265B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fld id="{E1ADC0AE-540F-4032-A92E-47D1F522B1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C183C4-CB76-4B77-B2BA-C2B4E2EB575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395F7F-3036-4C08-B765-A6BEC1BB79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865722-F56E-4949-9E9F-9B2A8BC6DCA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123763-C415-4183-9E2F-DC850F271D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453059-530A-44B0-A53D-664DCE4B26F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BCE79E-6A80-419D-A326-405308607A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3C0FEC-D6D9-4FDA-B81A-F4110867199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BDE613-2FEA-48AE-B05A-FEA24F7E8B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41F616-4801-423B-93CE-5A41A65B915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5892C4-ADCC-4DBB-8FEF-E970FDA77F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A9D1B3-304C-4B53-86CA-EEB476CE562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03C8D8-4571-4B54-A4E1-B966A04B43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CAA376-7E38-4698-88E8-AC2B579F3EB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6302F8-7CAB-406F-8756-920A0F4A39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D31E22-4C28-4D75-9956-E6968991DF4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A3BAF9-AEF1-456A-9362-5E52E1ED16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BDDE1A-1435-45EE-A4DE-D4271208A31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F6FF7D-CDC9-4B31-9954-EC6C52F8A4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D3D05B-C668-4BF8-80B1-97203148817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14F8CC-5F40-4898-BB38-EEBC42135C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FF715F-69B4-4D57-86CC-C62B1ACA0FC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659796-1927-4D5A-91C8-2F4526D8F3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msmt.cz/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mailto:petra.netikova@msmt.cz" TargetMode="External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msmt.cz/" TargetMode="External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2844360"/>
            <a:ext cx="7772400" cy="102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600" spc="-1" strike="noStrike">
                <a:solidFill>
                  <a:srgbClr val="f39800"/>
                </a:solidFill>
                <a:latin typeface="Helvetica CE"/>
                <a:ea typeface="Arial CE"/>
              </a:rPr>
              <a:t>Veřejné zakázky</a:t>
            </a:r>
            <a:endParaRPr b="1" lang="en-US" sz="36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800"/>
                </a:solidFill>
                <a:latin typeface="Helvetica CE"/>
              </a:rPr>
              <a:t>Hodnocení nabídek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1329840" y="1952280"/>
            <a:ext cx="6458040" cy="37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ffc000"/>
                </a:solidFill>
                <a:latin typeface="Helvetica CE"/>
              </a:rPr>
              <a:t>Komise/pověřená osoba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 C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Mohou být zaměstnanci zadavatel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 C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Mohou zastávat i roli komise pro otevírání obálek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ffc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ffc000"/>
                </a:solidFill>
                <a:latin typeface="Helvetica CE"/>
              </a:rPr>
              <a:t>Postup + dokladování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 C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Hodnoceny jsou pouze úplné nabídk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 C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abídky předložené po uplynutí lhůty nejsou hodnocen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 C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abídky, které nesplňují podmínky výzvy a kvalifikační kritéria nejsou hodnocen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 C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O hodnocení je vždy nutné pořídit protokol !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329840" y="1047240"/>
            <a:ext cx="645804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800"/>
                </a:solidFill>
                <a:latin typeface="Helvetica CE"/>
              </a:rPr>
              <a:t>Ukončení výběrového říze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1329840" y="1755720"/>
            <a:ext cx="6458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499"/>
              </a:spcBef>
              <a:buClr>
                <a:srgbClr val="ffc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ffc000"/>
                </a:solidFill>
                <a:latin typeface="Helvetica CE"/>
              </a:rPr>
              <a:t>Uzavření smlouvy – postup a možnosti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35880" indent="-335880" algn="just">
              <a:spcBef>
                <a:spcPts val="451"/>
              </a:spcBef>
              <a:buClr>
                <a:srgbClr val="000000"/>
              </a:buClr>
              <a:buFont typeface="Helvetica C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Zadavatel je oprávněn uzavřít smlouvu pouze s uchazečem, který podal vítěznou nabídku – pokud odmítne, pak s druhým…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5880" indent="-335880" algn="just">
              <a:spcBef>
                <a:spcPts val="451"/>
              </a:spcBef>
              <a:buClr>
                <a:srgbClr val="000000"/>
              </a:buClr>
              <a:buFont typeface="Helvetica C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Uzavřená smlouva musí odpovídat podmínkám stanoveným v zadávací dokumentaci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5880" indent="-335880" algn="just">
              <a:spcBef>
                <a:spcPts val="451"/>
              </a:spcBef>
              <a:buClr>
                <a:srgbClr val="000000"/>
              </a:buClr>
              <a:buFont typeface="Helvetica C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áležitosti smlouvy dle Příručky pro příjemce verze 4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5880" indent="-335880" algn="just">
              <a:spcBef>
                <a:spcPts val="499"/>
              </a:spcBef>
              <a:buClr>
                <a:srgbClr val="ffc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ffc000"/>
                </a:solidFill>
                <a:latin typeface="Helvetica CE"/>
              </a:rPr>
              <a:t>Zrušení VŘ – možnosti a důsledk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35880" indent="-335880" algn="just">
              <a:spcBef>
                <a:spcPts val="451"/>
              </a:spcBef>
              <a:buClr>
                <a:srgbClr val="000000"/>
              </a:buClr>
              <a:buFont typeface="Helvetica C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utnost informovat všechny uchazeč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5880" indent="-335880" algn="just">
              <a:spcBef>
                <a:spcPts val="451"/>
              </a:spcBef>
              <a:buClr>
                <a:srgbClr val="000000"/>
              </a:buClr>
              <a:buFont typeface="Helvetica C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okud nebyly ve stanovené lhůtě podány žádné nabídky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5880" indent="-335880" algn="just">
              <a:spcBef>
                <a:spcPts val="451"/>
              </a:spcBef>
              <a:buClr>
                <a:srgbClr val="000000"/>
              </a:buClr>
              <a:buFont typeface="Helvetica C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Zadavatel přeformuluje podmínky a zadává znov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5880" indent="-335880" algn="just">
              <a:spcBef>
                <a:spcPts val="451"/>
              </a:spcBef>
              <a:buClr>
                <a:srgbClr val="000000"/>
              </a:buClr>
              <a:buFont typeface="Helvetica C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Zadavatel je povinen o důvodech zrušení informovat poskytovatel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800"/>
                </a:solidFill>
                <a:latin typeface="Helvetica CE"/>
              </a:rPr>
              <a:t>Zakázky do 200 000 Kč bez DPH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Helvetica CE"/>
              </a:rPr>
              <a:t>Změna oproti předchozím výzvám!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emusí být prováděno výběrové řízení a je dostačující zaslat přímo objednávku jednomu vhodnému dodavateli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Objednávka musí být zaslána dopisem nebo elektronicky a potvrzena dodavatelem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S vybraným dodavatelem nemusí být nutně uzavřená písemná smlouva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 případě nákupu drobných položek v obchodě stačí doložit paragon z obchod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800"/>
                </a:solidFill>
                <a:latin typeface="Helvetica CE"/>
              </a:rPr>
              <a:t>Zakázky 200 000 – 800 000 Kč bez DPH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1329840" y="2374920"/>
            <a:ext cx="6458040" cy="33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Helvetica CE"/>
              </a:rPr>
              <a:t>Změna oproti předchozím výzvám!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Zadavatel je povinen písemně nebo elektronicky vyzvat k podání nabídky alespoň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3 dodavatel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Lhůta pro podání nabídek musí trvat minimálně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9 kalendářních dní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ode dne odeslání výzv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Hodnocení nabídek nemusí být prováděno hodnotící komisí – stačí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ověřená osoba zadavatel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S vybraným dodavatelem musí být uzavřená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ísemná smlouva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Kvalifikační kritéria dl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§ 54 zákona  137/2006 Sb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800"/>
                </a:solidFill>
                <a:latin typeface="Helvetica CE"/>
              </a:rPr>
              <a:t>Zakázky 800 000 – 2 000 000 Kč bez DPH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1329840" y="2168280"/>
            <a:ext cx="6458040" cy="34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Helvetica CE"/>
              </a:rPr>
              <a:t>Změna oproti předchozím výzvám!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Zadavatel je povinen písemně nebo elektronicky oslovit alespoň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5 dodavatelů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ovinnost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zveřejnit výzvu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a stránkách MŠMT (nebo ZS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Lhůta pro podání nabídek činí alespoň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10 kalendářních dn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Hodnocení nabídek musí být prováděno minimálně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3 člennou hodnotící komis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ísemná smlouva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Kvalifikační kritéria dl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§ 54 zákona  137/2006 Sb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 txBox="1"/>
          <p:nvPr/>
        </p:nvSpPr>
        <p:spPr>
          <a:xfrm>
            <a:off x="1330200" y="2344680"/>
            <a:ext cx="6742080" cy="34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Dostupná na </a:t>
            </a:r>
            <a:r>
              <a:rPr b="0" lang="cs-CZ" sz="1800" spc="-1" strike="noStrike" u="sng">
                <a:solidFill>
                  <a:srgbClr val="0000ff"/>
                </a:solidFill>
                <a:uFillTx/>
                <a:latin typeface="Helvetica CE"/>
                <a:hlinkClick r:id="rId1"/>
              </a:rPr>
              <a:t>www.msmt.cz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Uzavřené zadávací řízení = podpis smlouvy s dodavatelem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yplňuje se kumulativně – pokračování v číselné řadě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řikládá se ke každé MZ, ve které dochází k jakékoliv změně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Odevzdává se za celý projekt, tzn. obsahuje zadávací řízení příjemce i jednotlivých partnerů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okud je ZŘ zrušeno, vyplňuje se do této přílohy s následujícím pořadovým číslem, do názvu dodavatele se napíše zrušeno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800"/>
                </a:solidFill>
                <a:latin typeface="Helvetica CE"/>
              </a:rPr>
              <a:t>Příloha č. 2 - Přehled uzavřených zadávacích říze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2" descr=""/>
          <p:cNvPicPr/>
          <p:nvPr/>
        </p:nvPicPr>
        <p:blipFill>
          <a:blip r:embed="rId1"/>
          <a:stretch/>
        </p:blipFill>
        <p:spPr>
          <a:xfrm>
            <a:off x="214200" y="1143000"/>
            <a:ext cx="872964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800"/>
                </a:solidFill>
                <a:latin typeface="Helvetica CE"/>
              </a:rPr>
              <a:t>Doklady k monitorovací zprávě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Text oznámení o zahájení výběrového řízen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Zápis o posouzení a hodnocení podaných nabídek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Smlouva s vybraným dodavatelem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Text oznámení o výsledku VŘ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800"/>
                </a:solidFill>
                <a:latin typeface="Helvetica CE"/>
              </a:rPr>
              <a:t>Časté chyby 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edodání všech požadovaných podkladů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Součástí zápisu není prohlášení o mlčenlivosti a nepodjatosti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Zrušení ZŘ není součástí Přílohy č. 2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600" spc="-1" strike="noStrike">
                <a:solidFill>
                  <a:srgbClr val="ffc000"/>
                </a:solidFill>
                <a:latin typeface="Helvetica CE"/>
              </a:rPr>
              <a:t>Děkuji za pozornost</a:t>
            </a:r>
            <a:endParaRPr b="0" lang="en-US" sz="3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Ing. Petra Netíková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 u="sng">
                <a:solidFill>
                  <a:srgbClr val="0000ff"/>
                </a:solidFill>
                <a:uFillTx/>
                <a:latin typeface="Helvetica CE"/>
                <a:hlinkClick r:id="rId1"/>
              </a:rPr>
              <a:t>petra.netikova@msmt.cz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371600" y="1248840"/>
            <a:ext cx="628344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800"/>
                </a:solidFill>
                <a:latin typeface="Helvetica CE"/>
              </a:rPr>
              <a:t>Rozdělení zakázek</a:t>
            </a:r>
            <a:br>
              <a:rPr sz="2800"/>
            </a:b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1371600" y="1816200"/>
            <a:ext cx="628344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3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f39800"/>
                </a:solidFill>
                <a:latin typeface="Helvetica CE"/>
              </a:rPr>
              <a:t>Veřejná zakázka na dodávk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 C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Je zakázka, jejímž předmětem je pořízení věcí („zboží“) formou koupě zboží, koupě zboží na splátky nebo nájmu zboží. Dále za zakázku na dodávky lze považovat poskytnutí služby spočívající v umístění, montáži či uvedení zboží do provozu, pokud tyto činnosti nejsou základním účelem zakázky, avšak jsou nezbytné ke splnění zakázky na dodávk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f3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f39800"/>
                </a:solidFill>
                <a:latin typeface="Helvetica CE"/>
              </a:rPr>
              <a:t>Veřejná zakázka na stavební práce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f3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f39800"/>
                </a:solidFill>
                <a:latin typeface="Helvetica CE"/>
              </a:rPr>
              <a:t>Veřejná zakázka na služb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   Je zakázka, která není zakázkou na dodávky nebo na stavební prác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329840" y="1047600"/>
            <a:ext cx="64580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800"/>
                </a:solidFill>
                <a:latin typeface="Helvetica CE"/>
              </a:rPr>
              <a:t>Základní ustanovení 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1329840" y="1681200"/>
            <a:ext cx="645804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Jakékoli výdaje na pořízení určitého zboží, služeb či stavebních úprav musí být bezpodmínečně spjaté s realizací projektu a pro projekt musí být prokazatelně nezbytné. V opačném případě by se jednalo o nezpůsobilý výdaj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5880" indent="-3358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Zadavatelem zakázky může být příjemce dotace nebo jeho partner s finančním příspěvkem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, pokud je touto činností pověřen ve Smlouvě o partnerství. Příjemce dotace je však odpovědný za to, že v rámci realizace projektu nedojde k porušení pravid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5880" indent="-3358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Další možností je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zmocnit partnera k zastoupení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v souladu s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§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151 zákona č. 137/2006 Sb., o veřejných zakázkách. Zadavatelem v tomto případě zůstává příjemc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800"/>
                </a:solidFill>
                <a:latin typeface="Helvetica CE"/>
              </a:rPr>
              <a:t>Základní ustanove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říjemce/partner může provést výběr dodavatele již před zahájením realizace projektu. Výdaje spojené s tímto výběrem jsou však neuznatelné!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Dle zákona č. 320/2001 Sb., o finanční kontrole ve veřejné správě, musí příjemci disponovat s veřejnými prostředky hospodárně, efektivně a účelně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800"/>
                </a:solidFill>
                <a:latin typeface="Helvetica CE"/>
              </a:rPr>
              <a:t>Stanovení předmětu zakázk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ffc000"/>
                </a:solidFill>
                <a:latin typeface="Helvetica CE"/>
              </a:rPr>
              <a:t>Zadavatel stanoví předmět jedné zakázky tak, aby: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 CE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šechna obdobná a spolu související plnění, která zadavatel zamýšlí zadat v průběhu jednoho účetního období,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nebo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b) Všechna plnění, která spolu místně, věcně a časově souvisí, nebo jejichž předměty plnění tvoří jeden funkční celek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800"/>
                </a:solidFill>
                <a:latin typeface="Helvetica CE"/>
              </a:rPr>
              <a:t>Stanovení předmětu zakázk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ffc000"/>
                </a:solidFill>
                <a:latin typeface="Helvetica CE"/>
              </a:rPr>
              <a:t>POZOR: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ři určení předmětu zakázky </a:t>
            </a:r>
            <a:r>
              <a:rPr b="1" lang="cs-CZ" sz="1800" spc="-1" strike="noStrike">
                <a:solidFill>
                  <a:srgbClr val="c00000"/>
                </a:solidFill>
                <a:latin typeface="Helvetica CE"/>
              </a:rPr>
              <a:t>NENÍ PŘÍPUSTNÉ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uvádět v oznámení o zahájení výběrového řízení (ve Výzvě k podání nabídky nebo v zadávací dokumentaci) požadavky nebo odkazy na obchodní firmy, názvy nebo jména a příjmení, specifická označení zboží a služeb, které platí pro určitou osobu, pokud by to vedlo ke zvýhodnění nebo vyloučení určitých uchazečů nebo určitých výrobků!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800"/>
                </a:solidFill>
                <a:latin typeface="Helvetica CE"/>
              </a:rPr>
              <a:t>Dělení zakázek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esmí docházet k dělení předmětu zakázky na menší zakázky s cílem snížit hodnotu zakázky pod stanovené limity pro jednotlivé postup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Zadavatel není povinen sčítat předpokládané hodnoty zakázek, které vzniknou z aktuálních potřeb zadavatele a které nelze objektivně dopředu předvíd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ovinnost sčítání neplatí ani pro opakované zakázky, které zadavatel pořizuje nepravidelně a její jednotková cena je v průběhu účetního období proměnlivá (např. potraviny, pohonných hmot či letenek pro cílovou skupinu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329840" y="1076040"/>
            <a:ext cx="672804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800"/>
                </a:solidFill>
                <a:latin typeface="Helvetica CE"/>
              </a:rPr>
              <a:t>Forma zahájení výběrového říze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1329840" y="1798200"/>
            <a:ext cx="6458040" cy="40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 CE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Uveřejnění oznámení o zahájení výběrového řízen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 CE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Odesláním výzvy k podání nabídek konkrétním zájemcům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 CE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Kombinace způsobů a) a b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Oznámení o zahájení výběrového řízení musí být uveřejněno na webových stránkách MŠMT nebo zprostředkujícím subjektu, dále může být uveřejněno na webových stránkách zadavatele či v tisk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Formulář pro zveřejnění výzvy na webových stránkách poskytovatele dotace naleznete na </a:t>
            </a:r>
            <a:r>
              <a:rPr b="0" lang="cs-CZ" sz="1800" spc="-1" strike="noStrike" u="sng">
                <a:solidFill>
                  <a:srgbClr val="0000ff"/>
                </a:solidFill>
                <a:uFillTx/>
                <a:latin typeface="Helvetica CE"/>
                <a:hlinkClick r:id="rId1"/>
              </a:rPr>
              <a:t>www.msmt.cz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(Výzva k podání nabídek). Součástí formuláře jsou i kontaktní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e-mailové adresy –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nejpozději 3 pracovní dny před termínem zveřejněn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329840" y="1017720"/>
            <a:ext cx="6458040" cy="7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800"/>
                </a:solidFill>
                <a:latin typeface="Helvetica CE"/>
              </a:rPr>
              <a:t>Oznámení o zahájení VŘ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1329840" y="1739520"/>
            <a:ext cx="6458040" cy="41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ffc000"/>
                </a:solidFill>
                <a:latin typeface="Helvetica CE"/>
              </a:rPr>
              <a:t>Musí obsahovat: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Identifikační údaje zadavatel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ázev a popis předmětu zakázk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ředpokládaná hodnota zakázky bez DPH a s DPH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Lhůta a místo pro podání nabídk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Údaje o hodnotících kritérií (uvádět v %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Informace o tom, v jakém jazyce může být nabídka podána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Logolink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Odkaz na kontaktní osobu zadavatele, telefon, e-mailová adresa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Ustanovení o zrušení zakázk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7:09:51Z</dcterms:created>
  <dc:creator>Amos Amos</dc:creator>
  <dc:description/>
  <dc:language>en-US</dc:language>
  <cp:lastModifiedBy>ugh</cp:lastModifiedBy>
  <dcterms:modified xsi:type="dcterms:W3CDTF">2010-09-07T07:24:28Z</dcterms:modified>
  <cp:revision>115</cp:revision>
  <dc:subject/>
  <dc:title>Titulní strana – Titulek</dc:title>
</cp:coreProperties>
</file>